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4D2C-585C-4D84-863A-F75E7D7669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1405-29DC-4CBD-953B-4459AE00C0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C6E-537B-448A-B824-8410C2EF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764-398D-4DB2-84A5-31EA6165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7E2-24F2-44BF-B4CA-FE4117DC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129-94E4-4541-BA35-5B43B309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BC90-CDEC-41DB-9118-F117903E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2D34-0452-4E77-A692-5A84EB90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D0EA-9E45-478C-9A94-294BDBC3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454C-04EC-4FDB-8920-855BCA80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4725-FC23-4F35-8836-A50660CE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894A-6337-489A-9424-582F3836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B447-2264-4631-BAE4-8FCB1CBA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D9F-0D81-4865-AA93-79DF78F8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1904-D4FC-49A9-8728-FB21833A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7AB3-CDFC-4EDF-9A38-A19D9B6B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A3D5-EDB9-4E49-A40B-F9D1DCA3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45E1-DE36-4862-8E34-FF138E80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7272-CEB4-4C5F-82E9-FD3A59F2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C2B-0CB7-4DE0-A66C-A6A0644C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F04F-503F-413C-8B31-C9F3663F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3D4-1DBD-44F9-8C90-10C37E1A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1A5-868A-4E7F-94C8-66BF1B42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310-89BD-4C75-9AB5-551CD206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972-75F1-4FDD-BB33-4A223BE3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6B8-E504-495C-A842-C0B6C12D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704F-1A93-4BDB-A975-2B12B5ADDBE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0AB7-BE01-433F-9C94-A764F9D0711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становка учебной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Жили у бабуси два весёлых гуся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Объект 4" descr="30"/>
          <p:cNvPicPr/>
          <p:nvPr/>
        </p:nvPicPr>
        <p:blipFill>
          <a:blip r:embed="rId1"/>
          <a:stretch/>
        </p:blipFill>
        <p:spPr>
          <a:xfrm>
            <a:off x="5003640" y="2421000"/>
            <a:ext cx="2737080" cy="2303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йдите числитель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и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ое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оюродный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ойк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ойни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ятак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ятый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ятиклассник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я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и пятых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троить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ойн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img3"/>
          <p:cNvPicPr/>
          <p:nvPr/>
        </p:nvPicPr>
        <p:blipFill>
          <a:blip r:embed="rId1"/>
          <a:stretch/>
        </p:blipFill>
        <p:spPr>
          <a:xfrm>
            <a:off x="8296200" y="2100240"/>
            <a:ext cx="847800" cy="1209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img5"/>
          <p:cNvPicPr/>
          <p:nvPr/>
        </p:nvPicPr>
        <p:blipFill>
          <a:blip r:embed="rId2"/>
          <a:stretch/>
        </p:blipFill>
        <p:spPr>
          <a:xfrm>
            <a:off x="0" y="5229360"/>
            <a:ext cx="743040" cy="1085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1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-1179360"/>
            <a:ext cx="69436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6696000" cy="4392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WordArt 14"/>
          <p:cNvSpPr txBox="1"/>
          <p:nvPr/>
        </p:nvSpPr>
        <p:spPr>
          <a:xfrm>
            <a:off x="971640" y="1268280"/>
            <a:ext cx="626436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РИ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МЁН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ЛИТЕЛЬНЫХ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Picture 20" descr="img2"/>
          <p:cNvPicPr/>
          <p:nvPr/>
        </p:nvPicPr>
        <p:blipFill>
          <a:blip r:embed="rId9"/>
          <a:stretch/>
        </p:blipFill>
        <p:spPr>
          <a:xfrm>
            <a:off x="5364000" y="5445000"/>
            <a:ext cx="838440" cy="1162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дведём итог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сегодня узнали на урок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будем отличать эту часть речи от других? (задай вопросы по изученной тем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нравилось ли вам на урок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кого были трудности? Каки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становка учебной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пишите слова из предложения, распределив по  частям реч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 каким словом возникла проблем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3961080" cy="4217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строение плана  проек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Выяснить как называются сло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Что обозначаю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На какие вопросы отвечаю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Объект 4" descr="30"/>
          <p:cNvPicPr/>
          <p:nvPr/>
        </p:nvPicPr>
        <p:blipFill>
          <a:blip r:embed="rId1"/>
          <a:stretch/>
        </p:blipFill>
        <p:spPr>
          <a:xfrm>
            <a:off x="5003640" y="2421000"/>
            <a:ext cx="2737080" cy="2303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800"/>
            <a:ext cx="6870600" cy="18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шесть, осень, восемь, красивая, первый, бежит, сорок, семья, трет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8" name="Organization Chart 33"/>
          <p:cNvGrpSpPr/>
          <p:nvPr/>
        </p:nvGrpSpPr>
        <p:grpSpPr>
          <a:xfrm>
            <a:off x="1357200" y="3286080"/>
            <a:ext cx="6624720" cy="2746440"/>
            <a:chOff x="1357200" y="3286080"/>
            <a:chExt cx="6624720" cy="2746440"/>
          </a:xfrm>
        </p:grpSpPr>
        <p:cxnSp>
          <p:nvCxnSpPr>
            <p:cNvPr id="169" name="_s1028"/>
            <p:cNvCxnSpPr/>
            <p:nvPr/>
          </p:nvCxnSpPr>
          <p:spPr>
            <a:xfrm flipV="1" rot="16200000">
              <a:off x="4988520" y="3613680"/>
              <a:ext cx="405720" cy="1764360"/>
            </a:xfrm>
            <a:prstGeom prst="bentConnector3">
              <a:avLst>
                <a:gd name="adj1" fmla="val 22646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170" name="_s1029"/>
            <p:cNvCxnSpPr/>
            <p:nvPr/>
          </p:nvCxnSpPr>
          <p:spPr>
            <a:xfrm flipH="1" flipV="1" rot="5400000">
              <a:off x="3411360" y="3836880"/>
              <a:ext cx="462960" cy="1261080"/>
            </a:xfrm>
            <a:prstGeom prst="bentConnector3">
              <a:avLst>
                <a:gd name="adj1" fmla="val 19844"/>
              </a:avLst>
            </a:prstGeom>
            <a:ln w="28440">
              <a:solidFill>
                <a:srgbClr val="ffb800"/>
              </a:solidFill>
              <a:miter/>
            </a:ln>
          </p:spPr>
        </p:cxnSp>
        <p:sp>
          <p:nvSpPr>
            <p:cNvPr id="171" name="_s1030"/>
            <p:cNvSpPr/>
            <p:nvPr/>
          </p:nvSpPr>
          <p:spPr>
            <a:xfrm>
              <a:off x="2076120" y="3286080"/>
              <a:ext cx="5042160" cy="104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b200"/>
              </a:solidFill>
              <a:miter/>
            </a:ln>
            <a:effectLst>
              <a:outerShdw dist="63504" dir="19383909" blurRad="0" rotWithShape="0">
                <a:srgbClr val="00b2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МЯ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 u="sng">
                  <a:solidFill>
                    <a:srgbClr val="00b200"/>
                  </a:solidFill>
                  <a:uFillTx/>
                  <a:latin typeface="Comic Sans MS"/>
                </a:rPr>
                <a:t>ЧИСЛИТЕЛЬНОЕ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_s1031"/>
            <p:cNvSpPr/>
            <p:nvPr/>
          </p:nvSpPr>
          <p:spPr>
            <a:xfrm>
              <a:off x="1357200" y="4815360"/>
              <a:ext cx="2808360" cy="1217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703dff"/>
              </a:solidFill>
              <a:miter/>
            </a:ln>
            <a:effectLst>
              <a:outerShdw dist="63504" dir="19383909" blurRad="0" rotWithShape="0">
                <a:srgbClr val="703d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Отвечает на вопрос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Comic Sans MS"/>
                </a:rPr>
                <a:t>сколько?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обозначает </a:t>
              </a:r>
              <a:r>
                <a:rPr b="0" lang="en-US" sz="1800" spc="-1" strike="noStrike" u="sng">
                  <a:solidFill>
                    <a:srgbClr val="00b200"/>
                  </a:solidFill>
                  <a:uFillTx/>
                  <a:latin typeface="Comic Sans MS"/>
                </a:rPr>
                <a:t>количество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предметов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_s1032"/>
            <p:cNvSpPr/>
            <p:nvPr/>
          </p:nvSpPr>
          <p:spPr>
            <a:xfrm>
              <a:off x="4668480" y="4815360"/>
              <a:ext cx="3313440" cy="1217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703dff"/>
              </a:solidFill>
              <a:miter/>
            </a:ln>
            <a:effectLst>
              <a:outerShdw dist="63504" dir="19383909" blurRad="0" rotWithShape="0">
                <a:srgbClr val="703d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Отвечает на вопрос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Comic Sans MS"/>
                </a:rPr>
                <a:t>какой? который?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обозначает </a:t>
              </a:r>
              <a:r>
                <a:rPr b="0" lang="en-US" sz="1800" spc="-1" strike="noStrike" u="sng">
                  <a:solidFill>
                    <a:srgbClr val="00b200"/>
                  </a:solidFill>
                  <a:uFillTx/>
                  <a:latin typeface="Comic Sans MS"/>
                </a:rPr>
                <a:t>порядок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предметов при счёт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74" name="Picture 54" descr="img0"/>
          <p:cNvPicPr/>
          <p:nvPr/>
        </p:nvPicPr>
        <p:blipFill>
          <a:blip r:embed="rId4"/>
          <a:stretch/>
        </p:blipFill>
        <p:spPr>
          <a:xfrm>
            <a:off x="7020000" y="476280"/>
            <a:ext cx="628560" cy="1143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личественные числитель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4184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вечают на вопрос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скольк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означают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количество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ме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меры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шесть, пятнадцать, пять десятых, тр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19" descr="IMAG0012"/>
          <p:cNvPicPr/>
          <p:nvPr/>
        </p:nvPicPr>
        <p:blipFill>
          <a:blip r:embed="rId1"/>
          <a:stretch/>
        </p:blipFill>
        <p:spPr>
          <a:xfrm>
            <a:off x="4632480" y="1773360"/>
            <a:ext cx="3743280" cy="4751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0" descr="img5"/>
          <p:cNvPicPr/>
          <p:nvPr/>
        </p:nvPicPr>
        <p:blipFill>
          <a:blip r:embed="rId2"/>
          <a:stretch/>
        </p:blipFill>
        <p:spPr>
          <a:xfrm>
            <a:off x="285840" y="142920"/>
            <a:ext cx="788760" cy="1152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2" descr="img8"/>
          <p:cNvPicPr/>
          <p:nvPr/>
        </p:nvPicPr>
        <p:blipFill>
          <a:blip r:embed="rId3"/>
          <a:stretch/>
        </p:blipFill>
        <p:spPr>
          <a:xfrm>
            <a:off x="2700360" y="5373720"/>
            <a:ext cx="743040" cy="1085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рядковые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числитель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6560" y="1828440"/>
            <a:ext cx="37450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Отвечают на вопрос 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какой? который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Обозначают 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порядок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предметов при счёте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Примеры: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ru-RU" sz="2600" spc="-1" strike="noStrike">
                <a:solidFill>
                  <a:srgbClr val="703dff"/>
                </a:solidFill>
                <a:latin typeface="Comic Sans MS"/>
              </a:rPr>
              <a:t>первый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ru-RU" sz="2600" spc="-1" strike="noStrike">
                <a:solidFill>
                  <a:srgbClr val="703dff"/>
                </a:solidFill>
                <a:latin typeface="Comic Sans MS"/>
              </a:rPr>
              <a:t>четвёртый, тридцатый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6" descr="img10"/>
          <p:cNvPicPr/>
          <p:nvPr/>
        </p:nvPicPr>
        <p:blipFill>
          <a:blip r:embed="rId1"/>
          <a:stretch/>
        </p:blipFill>
        <p:spPr>
          <a:xfrm>
            <a:off x="3492360" y="5157720"/>
            <a:ext cx="743040" cy="1085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img4"/>
          <p:cNvPicPr/>
          <p:nvPr/>
        </p:nvPicPr>
        <p:blipFill>
          <a:blip r:embed="rId2"/>
          <a:stretch/>
        </p:blipFill>
        <p:spPr>
          <a:xfrm>
            <a:off x="6659640" y="404640"/>
            <a:ext cx="761760" cy="1028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3"/>
          <a:stretch/>
        </p:blipFill>
        <p:spPr>
          <a:xfrm>
            <a:off x="4846680" y="1773360"/>
            <a:ext cx="3682800" cy="4392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25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225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725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225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725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5" descr="img5"/>
          <p:cNvPicPr/>
          <p:nvPr/>
        </p:nvPicPr>
        <p:blipFill>
          <a:blip r:embed="rId1"/>
          <a:stretch/>
        </p:blipFill>
        <p:spPr>
          <a:xfrm>
            <a:off x="5867280" y="4797360"/>
            <a:ext cx="743040" cy="1085760"/>
          </a:xfrm>
          <a:prstGeom prst="rect">
            <a:avLst/>
          </a:prstGeom>
          <a:ln w="0">
            <a:noFill/>
          </a:ln>
        </p:spPr>
      </p:pic>
      <p:sp>
        <p:nvSpPr>
          <p:cNvPr id="188" name="WordArt 7"/>
          <p:cNvSpPr txBox="1"/>
          <p:nvPr/>
        </p:nvSpPr>
        <p:spPr>
          <a:xfrm>
            <a:off x="1457280" y="2384280"/>
            <a:ext cx="622944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 каждый день и каждый ча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ать готово, сколько вас,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я могу, имей в виду,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ать, который ты в ряду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9" name="Picture 8" descr="img10"/>
          <p:cNvPicPr/>
          <p:nvPr/>
        </p:nvPicPr>
        <p:blipFill>
          <a:blip r:embed="rId2"/>
          <a:stretch/>
        </p:blipFill>
        <p:spPr>
          <a:xfrm>
            <a:off x="2484360" y="5084640"/>
            <a:ext cx="743040" cy="1086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обери пословиц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меро   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блудиться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ть 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дти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мь раз отмерь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ин ум хорошо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трёх сосн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 свои пять пальце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два лучш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ин раз отреж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ного не жду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все четыре сторо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7" descr="img4"/>
          <p:cNvPicPr/>
          <p:nvPr/>
        </p:nvPicPr>
        <p:blipFill>
          <a:blip r:embed="rId1"/>
          <a:stretch/>
        </p:blipFill>
        <p:spPr>
          <a:xfrm>
            <a:off x="2987640" y="5300640"/>
            <a:ext cx="762120" cy="1028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img2"/>
          <p:cNvPicPr/>
          <p:nvPr/>
        </p:nvPicPr>
        <p:blipFill>
          <a:blip r:embed="rId2"/>
          <a:stretch/>
        </p:blipFill>
        <p:spPr>
          <a:xfrm>
            <a:off x="250920" y="333360"/>
            <a:ext cx="838080" cy="1162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70" dur="2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733 E">
                                      <p:cBhvr>
                                        <p:cTn id="172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2312 L 0.00139 0.09225 E">
                                      <p:cBhvr>
                                        <p:cTn id="174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781 -0.13618 E">
                                      <p:cBhvr>
                                        <p:cTn id="176" dur="2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9434 E">
                                      <p:cBhvr>
                                        <p:cTn id="178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2035 E">
                                      <p:cBhvr>
                                        <p:cTn id="180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640908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cc"/>
                </a:solidFill>
                <a:latin typeface="Comic Sans MS"/>
              </a:rPr>
              <a:t>Пять или пятёрка – какая разница?</a:t>
            </a:r>
            <a:br>
              <a:rPr sz="4000"/>
            </a:br>
            <a:r>
              <a:rPr b="0" lang="ru-RU" sz="4000" spc="-1" strike="noStrike">
                <a:solidFill>
                  <a:srgbClr val="0099cc"/>
                </a:solidFill>
                <a:latin typeface="Comic Sans MS"/>
              </a:rPr>
              <a:t>Сравнит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20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ять, пятёрка и пята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ять моне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ять тетрад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дный пята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ятёр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76720" y="2565360"/>
            <a:ext cx="3743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ольк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ольк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6" descr="img4"/>
          <p:cNvPicPr/>
          <p:nvPr/>
        </p:nvPicPr>
        <p:blipFill>
          <a:blip r:embed="rId1"/>
          <a:stretch/>
        </p:blipFill>
        <p:spPr>
          <a:xfrm>
            <a:off x="611280" y="692280"/>
            <a:ext cx="761760" cy="1028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img8"/>
          <p:cNvPicPr/>
          <p:nvPr/>
        </p:nvPicPr>
        <p:blipFill>
          <a:blip r:embed="rId2"/>
          <a:stretch/>
        </p:blipFill>
        <p:spPr>
          <a:xfrm>
            <a:off x="5219640" y="4941720"/>
            <a:ext cx="743040" cy="1086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17:49:41Z</dcterms:created>
  <dc:creator>Жена</dc:creator>
  <dc:description/>
  <dc:language>en-US</dc:language>
  <cp:lastModifiedBy>User</cp:lastModifiedBy>
  <dcterms:modified xsi:type="dcterms:W3CDTF">2017-10-12T22:09:59Z</dcterms:modified>
  <cp:revision>36</cp:revision>
  <dc:subject/>
  <dc:title>Имя числительное</dc:title>
</cp:coreProperties>
</file>